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E211-DCAF-41ED-9A6E-29BFD899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588-EEF8-4A40-B47E-5F42FEC6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7DAD-0689-42BE-80C0-F004F4A3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B57-2ECF-4344-822B-CF0E3666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AAF-905C-4EA4-AEC2-D478B938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2769-F4E0-4754-A323-4A84405F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ABB-5A02-47E6-ACD2-0FE08416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1EA7-6F4B-426C-BB72-87880255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EFA-ED5A-4EC4-9338-64CEB790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D741-BDC7-42D1-8B1C-6BA4A7CA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6AC-7F4A-4870-95E3-FEDEE22D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2BD-D044-4093-8314-A3879724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91B6-DB12-4575-9088-44B11E6D5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HE SYDNEY BEACH USERS STU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3570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355200" y="5105520"/>
            <a:ext cx="17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 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9400" y="484812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3570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354840" y="5105520"/>
            <a:ext cx="237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 = 1.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9400" y="484812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2084400"/>
            <a:ext cx="7619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095880" cy="3836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4495680"/>
            <a:ext cx="8153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3500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467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3733920" cy="5181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76920" y="838080"/>
            <a:ext cx="350496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41520" y="0"/>
            <a:ext cx="32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18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43800" cy="1117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7543800" cy="3783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28800" y="5029200"/>
            <a:ext cx="30492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99036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7543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15T20:56:44Z</dcterms:modified>
  <cp:revision>97</cp:revision>
  <dc:subject/>
  <dc:title>The Art in the State of the Art</dc:title>
</cp:coreProperties>
</file>